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8CDF-11AE-43B1-80A6-2C1C22D1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3839040"/>
            <a:ext cx="71625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1B2-969A-4B6B-8BCB-5CECD788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1280" y="13712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38390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1280" y="38390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569-BC0A-454F-B732-FE5B9FCF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2306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2440" y="1371240"/>
            <a:ext cx="2306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34520" y="1371240"/>
            <a:ext cx="2306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3839040"/>
            <a:ext cx="2306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2440" y="3839040"/>
            <a:ext cx="2306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34520" y="3839040"/>
            <a:ext cx="2306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EDB-CF14-44F8-BE2B-98AB8C42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E64-365D-4228-9449-998A0301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1B74-6670-4974-9316-0A6D98F7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495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371240"/>
            <a:ext cx="3495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08D-0A40-463C-823B-6CFDAE33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F4E-A023-4E0B-9BD0-CE5505E7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040" y="680760"/>
            <a:ext cx="716292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937-A5C5-4929-8596-AC537DE2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1371240"/>
            <a:ext cx="3495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38390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91A-9D17-4ADF-9EA8-40E21962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495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1280" y="13712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1280" y="38390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31A-A264-4C9D-B1E2-B50B88C5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3712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39040"/>
            <a:ext cx="71625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06D-56EE-453F-9B12-B6B94250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D30D-0729-451C-A959-1C802DBBC9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58760" y="139680"/>
            <a:ext cx="8826480" cy="6578640"/>
            <a:chOff x="158760" y="139680"/>
            <a:chExt cx="8826480" cy="6578640"/>
          </a:xfrm>
        </p:grpSpPr>
        <p:sp>
          <p:nvSpPr>
            <p:cNvPr id="4" name=""/>
            <p:cNvSpPr/>
            <p:nvPr/>
          </p:nvSpPr>
          <p:spPr>
            <a:xfrm>
              <a:off x="158760" y="139680"/>
              <a:ext cx="8826480" cy="6578640"/>
            </a:xfrm>
            <a:prstGeom prst="rect">
              <a:avLst/>
            </a:prstGeom>
            <a:gradFill rotWithShape="0">
              <a:gsLst>
                <a:gs pos="0">
                  <a:srgbClr val="3251b1"/>
                </a:gs>
                <a:gs pos="50000">
                  <a:srgbClr val="00279f"/>
                </a:gs>
                <a:gs pos="100000">
                  <a:srgbClr val="3251b1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6600" y="291960"/>
              <a:ext cx="8470800" cy="62740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b66ba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79440" y="347760"/>
              <a:ext cx="8385120" cy="6164280"/>
            </a:xfrm>
            <a:prstGeom prst="rect">
              <a:avLst/>
            </a:prstGeom>
            <a:gradFill rotWithShape="0">
              <a:gsLst>
                <a:gs pos="0">
                  <a:srgbClr val="4b66ba"/>
                </a:gs>
                <a:gs pos="5000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4440" y="520560"/>
              <a:ext cx="8115120" cy="5816880"/>
            </a:xfrm>
            <a:prstGeom prst="rect">
              <a:avLst/>
            </a:prstGeom>
            <a:gradFill rotWithShape="0">
              <a:gsLst>
                <a:gs pos="0">
                  <a:srgbClr val="000b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0956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hapter 17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taneity, entropy and fre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990720" y="914040"/>
            <a:ext cx="7162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xothermic process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ur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positiv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ndothermic process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ur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eg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this proc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l)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ur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univ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s on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emperature and Spontaneit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ropy changes in the surroundings are determined by the heat f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othermic process is favored because by giving up heat the entropy of the surroundings incre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z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ur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s on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ur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/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1447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1143000"/>
            <a:ext cx="1447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ur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57600" y="1143000"/>
            <a:ext cx="1447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univ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4120" y="1143000"/>
            <a:ext cx="281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taneo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2629080"/>
            <a:ext cx="533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2629080"/>
            <a:ext cx="533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4800" y="2629080"/>
            <a:ext cx="533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943280"/>
            <a:ext cx="533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38480" y="1943280"/>
            <a:ext cx="533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1943280"/>
            <a:ext cx="533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3505320"/>
            <a:ext cx="533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3505320"/>
            <a:ext cx="533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3505320"/>
            <a:ext cx="533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066680" y="4686480"/>
            <a:ext cx="3505320" cy="641160"/>
            <a:chOff x="1066680" y="4686480"/>
            <a:chExt cx="3505320" cy="641160"/>
          </a:xfrm>
        </p:grpSpPr>
        <p:sp>
          <p:nvSpPr>
            <p:cNvPr id="245" name=""/>
            <p:cNvSpPr/>
            <p:nvPr/>
          </p:nvSpPr>
          <p:spPr>
            <a:xfrm>
              <a:off x="2590920" y="4686480"/>
              <a:ext cx="533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66680" y="4686480"/>
              <a:ext cx="533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38480" y="4686480"/>
              <a:ext cx="533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324480" y="201924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38680" y="2705040"/>
            <a:ext cx="281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, Rever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4686480"/>
            <a:ext cx="2819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Low tem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3543480"/>
            <a:ext cx="312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High tem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Gibb's Free Energ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=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-T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at constant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 by -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/T = 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/T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/T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ur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/T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uni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is negative at constant T and P, the process is spontane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Let’s Check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reaction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s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º = 22.1 J/K mol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º =6030 J/m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at 10ºC and -10º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equatio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=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-T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taneity can be predicted from the sign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an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G=</a:t>
            </a: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H-T</a:t>
            </a: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127160" y="1149480"/>
            <a:ext cx="5852160" cy="606960"/>
            <a:chOff x="1127160" y="1149480"/>
            <a:chExt cx="5852160" cy="606960"/>
          </a:xfrm>
        </p:grpSpPr>
        <p:sp>
          <p:nvSpPr>
            <p:cNvPr id="258" name=""/>
            <p:cNvSpPr/>
            <p:nvPr/>
          </p:nvSpPr>
          <p:spPr>
            <a:xfrm>
              <a:off x="2498760" y="1225440"/>
              <a:ext cx="72756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27160" y="1225440"/>
              <a:ext cx="70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6000" y="1149480"/>
              <a:ext cx="28033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Spontaneous?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279440" y="1711440"/>
            <a:ext cx="5112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27000" y="1711440"/>
            <a:ext cx="370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00040" y="1835280"/>
            <a:ext cx="37285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all Temper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79440" y="2689200"/>
            <a:ext cx="5112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51040" y="2689200"/>
            <a:ext cx="5112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48120" y="2521080"/>
            <a:ext cx="417960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high temperature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ropy drive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79080" y="3984480"/>
            <a:ext cx="370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50680" y="3984480"/>
            <a:ext cx="370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71080" y="3816360"/>
            <a:ext cx="402264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low temperature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halpy drive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51040" y="5203800"/>
            <a:ext cx="5112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79080" y="5203800"/>
            <a:ext cx="370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70360" y="5035680"/>
            <a:ext cx="4545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t any temperatur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erse is spontane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676520"/>
            <a:ext cx="792504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3657600"/>
            <a:ext cx="792504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5029200"/>
            <a:ext cx="792504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2362320"/>
            <a:ext cx="792504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0" y="1219320"/>
            <a:ext cx="0" cy="5257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1143000"/>
            <a:ext cx="0" cy="5257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hird Law of Thermo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tropy of a pure crystal at 0 K is 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gives us a starting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thers must be&gt;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Entropies Sº ( at 298 K and 1 atm) of substances are lis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s - reactants to fin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mplex the molecule, the higher S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Free Energy in Reaction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 = standard free energy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energy change that will occur if reactants in their standard state turn to products in their standard 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’t be measured directly, can be calculated from other measur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=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º-T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Hess’s Law with known re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Free Energy in Reaction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ables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s-reactants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free energy of formation for any element in its standard state is 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- Spontaneity tells us nothing about 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Free energy and Pressure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77200" indent="-2772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 +RTln(Q) where Q is the reaction quotients (P of the products /P of the reactants all raised to their coefficient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(g) + 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(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uld the reaction be spontaneous at 25ºC with the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essure of 5.0 atm and the CO pressure of 3.0 at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(l) = -166 kJ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(g) = -137 kJ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= 0 kJ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Spontaneou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action that will occur without outside interven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need both thermodynamics and kinetics to describe a reaction comple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modynamics compares initial and final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etics describes pathway betw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ow far?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tells us spontaneity at current conditions. When will it st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ill go to the lowest possible free energy which may be an equilibr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equilibrium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0, Q =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 = -RTl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º            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emperature dependence of K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162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= -RTlnK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º - T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(K)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º/R(1/T)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º/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Free energy And Work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energy is that energy free to do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ximum amount  of work possible at a given temperature and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really achieved because some of the free energy is changed to heat during a change, so it can’t be used to do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hermodynamic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st Law- the energy of the universe is const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s track of thermodynamics doesn’t correctly predict spontane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ntrop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S) is disorder or random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nd Law the entropy of the universe incre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Entrop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d in terms of prob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ces take the arrangement that is most rand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number of arrangements for a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19720" y="2209680"/>
            <a:ext cx="3720960" cy="37972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807080" y="2673360"/>
            <a:ext cx="2730240" cy="1054080"/>
            <a:chOff x="4807080" y="2673360"/>
            <a:chExt cx="2730240" cy="1054080"/>
          </a:xfrm>
        </p:grpSpPr>
        <p:sp>
          <p:nvSpPr>
            <p:cNvPr id="56" name=""/>
            <p:cNvSpPr/>
            <p:nvPr/>
          </p:nvSpPr>
          <p:spPr>
            <a:xfrm>
              <a:off x="4807080" y="2673360"/>
              <a:ext cx="1054080" cy="10540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97440" y="3130560"/>
              <a:ext cx="596880" cy="21600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950080" y="2673360"/>
              <a:ext cx="1587240" cy="1054080"/>
              <a:chOff x="5950080" y="2673360"/>
              <a:chExt cx="1587240" cy="1054080"/>
            </a:xfrm>
          </p:grpSpPr>
          <p:sp>
            <p:nvSpPr>
              <p:cNvPr id="59" name=""/>
              <p:cNvSpPr/>
              <p:nvPr/>
            </p:nvSpPr>
            <p:spPr>
              <a:xfrm>
                <a:off x="6483240" y="2673360"/>
                <a:ext cx="1054080" cy="10540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950080" y="3130560"/>
                <a:ext cx="596880" cy="216000"/>
              </a:xfrm>
              <a:prstGeom prst="rect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7016760" y="290196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876920" y="4191120"/>
            <a:ext cx="2729520" cy="1054080"/>
            <a:chOff x="4876920" y="4191120"/>
            <a:chExt cx="2729520" cy="1054080"/>
          </a:xfrm>
        </p:grpSpPr>
        <p:sp>
          <p:nvSpPr>
            <p:cNvPr id="63" name=""/>
            <p:cNvSpPr/>
            <p:nvPr/>
          </p:nvSpPr>
          <p:spPr>
            <a:xfrm>
              <a:off x="4876920" y="4191120"/>
              <a:ext cx="1053720" cy="10540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7280" y="4648320"/>
              <a:ext cx="596520" cy="21600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6019560" y="4191120"/>
              <a:ext cx="1586880" cy="1054080"/>
              <a:chOff x="6019560" y="4191120"/>
              <a:chExt cx="1586880" cy="1054080"/>
            </a:xfrm>
          </p:grpSpPr>
          <p:sp>
            <p:nvSpPr>
              <p:cNvPr id="66" name=""/>
              <p:cNvSpPr/>
              <p:nvPr/>
            </p:nvSpPr>
            <p:spPr>
              <a:xfrm>
                <a:off x="6552720" y="4191120"/>
                <a:ext cx="1053720" cy="10540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019560" y="4648320"/>
                <a:ext cx="596520" cy="216000"/>
              </a:xfrm>
              <a:prstGeom prst="rect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5340240" y="450216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990720" y="1371240"/>
            <a:ext cx="3504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possible arrang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 % chance of finding the left emp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5181480" y="3657600"/>
            <a:ext cx="2743200" cy="1066680"/>
            <a:chOff x="5181480" y="3657600"/>
            <a:chExt cx="2743200" cy="1066680"/>
          </a:xfrm>
        </p:grpSpPr>
        <p:sp>
          <p:nvSpPr>
            <p:cNvPr id="71" name=""/>
            <p:cNvSpPr/>
            <p:nvPr/>
          </p:nvSpPr>
          <p:spPr>
            <a:xfrm>
              <a:off x="5181480" y="365760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72200" y="411480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324480" y="3657600"/>
              <a:ext cx="1600200" cy="1066680"/>
              <a:chOff x="6324480" y="3657600"/>
              <a:chExt cx="1600200" cy="1066680"/>
            </a:xfrm>
          </p:grpSpPr>
          <p:sp>
            <p:nvSpPr>
              <p:cNvPr id="74" name=""/>
              <p:cNvSpPr/>
              <p:nvPr/>
            </p:nvSpPr>
            <p:spPr>
              <a:xfrm>
                <a:off x="6858000" y="3657600"/>
                <a:ext cx="1066680" cy="1066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324480" y="4114800"/>
                <a:ext cx="6098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"/>
          <p:cNvSpPr/>
          <p:nvPr/>
        </p:nvSpPr>
        <p:spPr>
          <a:xfrm>
            <a:off x="6248520" y="53341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53341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4876920"/>
            <a:ext cx="1066680" cy="10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4876920"/>
            <a:ext cx="1066680" cy="10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5334120"/>
            <a:ext cx="228600" cy="228600"/>
          </a:xfrm>
          <a:prstGeom prst="ellipse">
            <a:avLst/>
          </a:prstGeom>
          <a:solidFill>
            <a:srgbClr val="e8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5029200"/>
            <a:ext cx="228600" cy="22860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029200" y="609480"/>
            <a:ext cx="2743200" cy="1067040"/>
            <a:chOff x="5029200" y="609480"/>
            <a:chExt cx="2743200" cy="1067040"/>
          </a:xfrm>
        </p:grpSpPr>
        <p:sp>
          <p:nvSpPr>
            <p:cNvPr id="83" name=""/>
            <p:cNvSpPr/>
            <p:nvPr/>
          </p:nvSpPr>
          <p:spPr>
            <a:xfrm>
              <a:off x="5029200" y="60948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19920" y="106668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6172200" y="609480"/>
              <a:ext cx="1600200" cy="1067040"/>
              <a:chOff x="6172200" y="609480"/>
              <a:chExt cx="1600200" cy="1067040"/>
            </a:xfrm>
          </p:grpSpPr>
          <p:sp>
            <p:nvSpPr>
              <p:cNvPr id="86" name=""/>
              <p:cNvSpPr/>
              <p:nvPr/>
            </p:nvSpPr>
            <p:spPr>
              <a:xfrm>
                <a:off x="6705720" y="609480"/>
                <a:ext cx="1066680" cy="10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172200" y="1066680"/>
                <a:ext cx="6094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5181480" y="2057400"/>
            <a:ext cx="2743200" cy="1066680"/>
            <a:chOff x="5181480" y="2057400"/>
            <a:chExt cx="2743200" cy="1066680"/>
          </a:xfrm>
        </p:grpSpPr>
        <p:sp>
          <p:nvSpPr>
            <p:cNvPr id="89" name=""/>
            <p:cNvSpPr/>
            <p:nvPr/>
          </p:nvSpPr>
          <p:spPr>
            <a:xfrm>
              <a:off x="5181480" y="205740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72200" y="251460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6324480" y="2057400"/>
              <a:ext cx="1600200" cy="1066680"/>
              <a:chOff x="6324480" y="2057400"/>
              <a:chExt cx="1600200" cy="1066680"/>
            </a:xfrm>
          </p:grpSpPr>
          <p:sp>
            <p:nvSpPr>
              <p:cNvPr id="92" name=""/>
              <p:cNvSpPr/>
              <p:nvPr/>
            </p:nvSpPr>
            <p:spPr>
              <a:xfrm>
                <a:off x="6858000" y="2057400"/>
                <a:ext cx="1066680" cy="1066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324480" y="2514600"/>
                <a:ext cx="6098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5568840" y="381636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1371600"/>
            <a:ext cx="3504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possible arrang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% chance of finding the left emp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 % chance of them being evenly disper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21680" y="3816360"/>
            <a:ext cx="21564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40440" y="920880"/>
            <a:ext cx="216000" cy="2156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97640" y="996840"/>
            <a:ext cx="21600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21680" y="2444760"/>
            <a:ext cx="21564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6560" y="2444760"/>
            <a:ext cx="21600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0720" y="1447920"/>
            <a:ext cx="3504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possible arrang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% chance of finding the left emp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 % chance of them being evenly disper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495680" y="838080"/>
            <a:ext cx="1828800" cy="685800"/>
            <a:chOff x="4495680" y="838080"/>
            <a:chExt cx="1828800" cy="685800"/>
          </a:xfrm>
        </p:grpSpPr>
        <p:grpSp>
          <p:nvGrpSpPr>
            <p:cNvPr id="103" name=""/>
            <p:cNvGrpSpPr/>
            <p:nvPr/>
          </p:nvGrpSpPr>
          <p:grpSpPr>
            <a:xfrm>
              <a:off x="4495680" y="838080"/>
              <a:ext cx="1828800" cy="685800"/>
              <a:chOff x="4495680" y="838080"/>
              <a:chExt cx="1828800" cy="685800"/>
            </a:xfrm>
          </p:grpSpPr>
          <p:sp>
            <p:nvSpPr>
              <p:cNvPr id="104" name=""/>
              <p:cNvSpPr/>
              <p:nvPr/>
            </p:nvSpPr>
            <p:spPr>
              <a:xfrm>
                <a:off x="4495680" y="83808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156280" y="11318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5257800" y="838080"/>
                <a:ext cx="1066680" cy="685800"/>
                <a:chOff x="5257800" y="838080"/>
                <a:chExt cx="1066680" cy="6858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5613480" y="838080"/>
                  <a:ext cx="711000" cy="685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257800" y="1131840"/>
                  <a:ext cx="406440" cy="14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" name=""/>
            <p:cNvSpPr/>
            <p:nvPr/>
          </p:nvSpPr>
          <p:spPr>
            <a:xfrm>
              <a:off x="5797440" y="844560"/>
              <a:ext cx="216000" cy="216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26040" y="996840"/>
              <a:ext cx="216000" cy="216000"/>
            </a:xfrm>
            <a:prstGeom prst="ellipse">
              <a:avLst/>
            </a:prstGeom>
            <a:solidFill>
              <a:srgbClr val="e844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21480" y="1149480"/>
              <a:ext cx="215640" cy="2156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1301760"/>
              <a:ext cx="215640" cy="21600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495680" y="1752480"/>
            <a:ext cx="1828800" cy="685800"/>
            <a:chOff x="4495680" y="1752480"/>
            <a:chExt cx="1828800" cy="685800"/>
          </a:xfrm>
        </p:grpSpPr>
        <p:sp>
          <p:nvSpPr>
            <p:cNvPr id="114" name=""/>
            <p:cNvSpPr/>
            <p:nvPr/>
          </p:nvSpPr>
          <p:spPr>
            <a:xfrm>
              <a:off x="4495680" y="17524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56280" y="204624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257800" y="1752480"/>
              <a:ext cx="1066680" cy="685800"/>
              <a:chOff x="5257800" y="1752480"/>
              <a:chExt cx="1066680" cy="685800"/>
            </a:xfrm>
          </p:grpSpPr>
          <p:sp>
            <p:nvSpPr>
              <p:cNvPr id="117" name=""/>
              <p:cNvSpPr/>
              <p:nvPr/>
            </p:nvSpPr>
            <p:spPr>
              <a:xfrm>
                <a:off x="5613480" y="1752480"/>
                <a:ext cx="71100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57800" y="20462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6477120" y="1752480"/>
            <a:ext cx="1828800" cy="685800"/>
            <a:chOff x="6477120" y="1752480"/>
            <a:chExt cx="1828800" cy="685800"/>
          </a:xfrm>
        </p:grpSpPr>
        <p:sp>
          <p:nvSpPr>
            <p:cNvPr id="120" name=""/>
            <p:cNvSpPr/>
            <p:nvPr/>
          </p:nvSpPr>
          <p:spPr>
            <a:xfrm>
              <a:off x="6477120" y="1752480"/>
              <a:ext cx="71100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37360" y="204624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7238880" y="1752480"/>
              <a:ext cx="1067040" cy="685800"/>
              <a:chOff x="7238880" y="1752480"/>
              <a:chExt cx="1067040" cy="685800"/>
            </a:xfrm>
          </p:grpSpPr>
          <p:sp>
            <p:nvSpPr>
              <p:cNvPr id="123" name=""/>
              <p:cNvSpPr/>
              <p:nvPr/>
            </p:nvSpPr>
            <p:spPr>
              <a:xfrm>
                <a:off x="7594560" y="175248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238880" y="20462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4572000" y="2666880"/>
            <a:ext cx="1828800" cy="685800"/>
            <a:chOff x="4572000" y="2666880"/>
            <a:chExt cx="1828800" cy="685800"/>
          </a:xfrm>
        </p:grpSpPr>
        <p:sp>
          <p:nvSpPr>
            <p:cNvPr id="126" name=""/>
            <p:cNvSpPr/>
            <p:nvPr/>
          </p:nvSpPr>
          <p:spPr>
            <a:xfrm>
              <a:off x="4572000" y="26668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32240" y="296064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5334120" y="2666880"/>
              <a:ext cx="1066680" cy="685800"/>
              <a:chOff x="5334120" y="2666880"/>
              <a:chExt cx="1066680" cy="685800"/>
            </a:xfrm>
          </p:grpSpPr>
          <p:sp>
            <p:nvSpPr>
              <p:cNvPr id="129" name=""/>
              <p:cNvSpPr/>
              <p:nvPr/>
            </p:nvSpPr>
            <p:spPr>
              <a:xfrm>
                <a:off x="5689440" y="266688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34120" y="29606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4578480" y="1987560"/>
            <a:ext cx="21564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26040" y="1835280"/>
            <a:ext cx="216000" cy="21564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21480" y="1987560"/>
            <a:ext cx="215640" cy="2160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50080" y="2139840"/>
            <a:ext cx="215640" cy="2160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78880" y="1758960"/>
            <a:ext cx="21564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11840" y="1835280"/>
            <a:ext cx="216000" cy="21564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02560" y="2063880"/>
            <a:ext cx="216000" cy="21564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7480" y="1987560"/>
            <a:ext cx="215640" cy="2160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73760" y="267336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02360" y="2825640"/>
            <a:ext cx="21600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83040" y="2978280"/>
            <a:ext cx="216000" cy="21564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26040" y="3130560"/>
            <a:ext cx="216000" cy="2160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553080" y="2666880"/>
            <a:ext cx="1828800" cy="685800"/>
            <a:chOff x="6553080" y="2666880"/>
            <a:chExt cx="1828800" cy="685800"/>
          </a:xfrm>
        </p:grpSpPr>
        <p:sp>
          <p:nvSpPr>
            <p:cNvPr id="144" name=""/>
            <p:cNvSpPr/>
            <p:nvPr/>
          </p:nvSpPr>
          <p:spPr>
            <a:xfrm>
              <a:off x="6553080" y="26668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13680" y="296064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7315200" y="2666880"/>
              <a:ext cx="1066680" cy="685800"/>
              <a:chOff x="7315200" y="2666880"/>
              <a:chExt cx="1066680" cy="685800"/>
            </a:xfrm>
          </p:grpSpPr>
          <p:sp>
            <p:nvSpPr>
              <p:cNvPr id="147" name=""/>
              <p:cNvSpPr/>
              <p:nvPr/>
            </p:nvSpPr>
            <p:spPr>
              <a:xfrm>
                <a:off x="7670880" y="2666880"/>
                <a:ext cx="71100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15200" y="29606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7854840" y="267336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83440" y="2825640"/>
            <a:ext cx="21600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8880" y="2978280"/>
            <a:ext cx="215640" cy="21564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5880" y="2749680"/>
            <a:ext cx="215640" cy="21564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572000" y="3657600"/>
            <a:ext cx="1828800" cy="685800"/>
            <a:chOff x="4572000" y="3657600"/>
            <a:chExt cx="1828800" cy="685800"/>
          </a:xfrm>
        </p:grpSpPr>
        <p:sp>
          <p:nvSpPr>
            <p:cNvPr id="154" name=""/>
            <p:cNvSpPr/>
            <p:nvPr/>
          </p:nvSpPr>
          <p:spPr>
            <a:xfrm>
              <a:off x="4572000" y="365760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32240" y="395136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334120" y="3657600"/>
              <a:ext cx="1066680" cy="685800"/>
              <a:chOff x="5334120" y="3657600"/>
              <a:chExt cx="1066680" cy="685800"/>
            </a:xfrm>
          </p:grpSpPr>
          <p:sp>
            <p:nvSpPr>
              <p:cNvPr id="157" name=""/>
              <p:cNvSpPr/>
              <p:nvPr/>
            </p:nvSpPr>
            <p:spPr>
              <a:xfrm>
                <a:off x="5689440" y="365760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334120" y="395136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6102360" y="374004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73760" y="4044960"/>
            <a:ext cx="21600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7080" y="4044960"/>
            <a:ext cx="215640" cy="2160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9360" y="3740040"/>
            <a:ext cx="216000" cy="2160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572000" y="5410080"/>
            <a:ext cx="1828800" cy="685800"/>
            <a:chOff x="4572000" y="5410080"/>
            <a:chExt cx="1828800" cy="685800"/>
          </a:xfrm>
        </p:grpSpPr>
        <p:sp>
          <p:nvSpPr>
            <p:cNvPr id="164" name=""/>
            <p:cNvSpPr/>
            <p:nvPr/>
          </p:nvSpPr>
          <p:spPr>
            <a:xfrm>
              <a:off x="4572000" y="54100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32240" y="570384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334120" y="5410080"/>
              <a:ext cx="1066680" cy="685800"/>
              <a:chOff x="5334120" y="5410080"/>
              <a:chExt cx="1066680" cy="685800"/>
            </a:xfrm>
          </p:grpSpPr>
          <p:sp>
            <p:nvSpPr>
              <p:cNvPr id="167" name=""/>
              <p:cNvSpPr/>
              <p:nvPr/>
            </p:nvSpPr>
            <p:spPr>
              <a:xfrm>
                <a:off x="5689440" y="541008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334120" y="57038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"/>
          <p:cNvSpPr/>
          <p:nvPr/>
        </p:nvSpPr>
        <p:spPr>
          <a:xfrm>
            <a:off x="4959360" y="5721480"/>
            <a:ext cx="216000" cy="2156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73760" y="5492880"/>
            <a:ext cx="216000" cy="21564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7080" y="5492880"/>
            <a:ext cx="215640" cy="21564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26040" y="5721480"/>
            <a:ext cx="216000" cy="21564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553080" y="3505320"/>
            <a:ext cx="1828800" cy="685800"/>
            <a:chOff x="6553080" y="3505320"/>
            <a:chExt cx="1828800" cy="685800"/>
          </a:xfrm>
        </p:grpSpPr>
        <p:sp>
          <p:nvSpPr>
            <p:cNvPr id="174" name=""/>
            <p:cNvSpPr/>
            <p:nvPr/>
          </p:nvSpPr>
          <p:spPr>
            <a:xfrm>
              <a:off x="6553080" y="350532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13680" y="3798720"/>
              <a:ext cx="406440" cy="14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315200" y="3505320"/>
              <a:ext cx="1066680" cy="685800"/>
              <a:chOff x="7315200" y="3505320"/>
              <a:chExt cx="1066680" cy="685800"/>
            </a:xfrm>
          </p:grpSpPr>
          <p:sp>
            <p:nvSpPr>
              <p:cNvPr id="177" name=""/>
              <p:cNvSpPr/>
              <p:nvPr/>
            </p:nvSpPr>
            <p:spPr>
              <a:xfrm>
                <a:off x="7670880" y="3505320"/>
                <a:ext cx="71100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315200" y="3798720"/>
                <a:ext cx="406440" cy="14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7854840" y="351144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35880" y="3587760"/>
            <a:ext cx="21564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35880" y="3892680"/>
            <a:ext cx="215640" cy="21564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7480" y="3816360"/>
            <a:ext cx="215640" cy="2160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629400" y="4343400"/>
            <a:ext cx="1828800" cy="685800"/>
            <a:chOff x="6629400" y="4343400"/>
            <a:chExt cx="1828800" cy="685800"/>
          </a:xfrm>
        </p:grpSpPr>
        <p:sp>
          <p:nvSpPr>
            <p:cNvPr id="184" name=""/>
            <p:cNvSpPr/>
            <p:nvPr/>
          </p:nvSpPr>
          <p:spPr>
            <a:xfrm>
              <a:off x="6629400" y="434340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89640" y="463716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7391520" y="4343400"/>
              <a:ext cx="1066680" cy="685800"/>
              <a:chOff x="7391520" y="4343400"/>
              <a:chExt cx="1066680" cy="685800"/>
            </a:xfrm>
          </p:grpSpPr>
          <p:sp>
            <p:nvSpPr>
              <p:cNvPr id="187" name=""/>
              <p:cNvSpPr/>
              <p:nvPr/>
            </p:nvSpPr>
            <p:spPr>
              <a:xfrm>
                <a:off x="7746840" y="434340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91520" y="463716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7931160" y="4349880"/>
            <a:ext cx="216000" cy="2156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64480" y="4730760"/>
            <a:ext cx="21564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54840" y="4654440"/>
            <a:ext cx="216000" cy="2160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40440" y="4502160"/>
            <a:ext cx="216000" cy="2160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572000" y="4495680"/>
            <a:ext cx="1828800" cy="685800"/>
            <a:chOff x="4572000" y="4495680"/>
            <a:chExt cx="1828800" cy="685800"/>
          </a:xfrm>
        </p:grpSpPr>
        <p:sp>
          <p:nvSpPr>
            <p:cNvPr id="194" name=""/>
            <p:cNvSpPr/>
            <p:nvPr/>
          </p:nvSpPr>
          <p:spPr>
            <a:xfrm>
              <a:off x="4572000" y="44956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32240" y="478944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4120" y="4495680"/>
              <a:ext cx="1066680" cy="685800"/>
              <a:chOff x="5334120" y="4495680"/>
              <a:chExt cx="1066680" cy="685800"/>
            </a:xfrm>
          </p:grpSpPr>
          <p:sp>
            <p:nvSpPr>
              <p:cNvPr id="197" name=""/>
              <p:cNvSpPr/>
              <p:nvPr/>
            </p:nvSpPr>
            <p:spPr>
              <a:xfrm>
                <a:off x="5689440" y="449568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334120" y="47894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807080" y="4654440"/>
            <a:ext cx="21564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7080" y="4959360"/>
            <a:ext cx="21564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97440" y="4883040"/>
            <a:ext cx="216000" cy="2160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02360" y="4807080"/>
            <a:ext cx="216000" cy="21564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705720" y="5410080"/>
            <a:ext cx="1828800" cy="685800"/>
            <a:chOff x="6705720" y="5410080"/>
            <a:chExt cx="1828800" cy="685800"/>
          </a:xfrm>
        </p:grpSpPr>
        <p:sp>
          <p:nvSpPr>
            <p:cNvPr id="204" name=""/>
            <p:cNvSpPr/>
            <p:nvPr/>
          </p:nvSpPr>
          <p:spPr>
            <a:xfrm>
              <a:off x="6705720" y="5410080"/>
              <a:ext cx="71100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65960" y="570384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467480" y="5410080"/>
              <a:ext cx="1067040" cy="685800"/>
              <a:chOff x="7467480" y="5410080"/>
              <a:chExt cx="1067040" cy="685800"/>
            </a:xfrm>
          </p:grpSpPr>
          <p:sp>
            <p:nvSpPr>
              <p:cNvPr id="207" name=""/>
              <p:cNvSpPr/>
              <p:nvPr/>
            </p:nvSpPr>
            <p:spPr>
              <a:xfrm>
                <a:off x="7823160" y="541008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467480" y="57038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6940440" y="5492880"/>
            <a:ext cx="216000" cy="2156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36080" y="5568840"/>
            <a:ext cx="21564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931160" y="5721480"/>
            <a:ext cx="216000" cy="21564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16760" y="5797440"/>
            <a:ext cx="216000" cy="2160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553080" y="762120"/>
            <a:ext cx="1828800" cy="685800"/>
            <a:chOff x="6553080" y="762120"/>
            <a:chExt cx="1828800" cy="685800"/>
          </a:xfrm>
        </p:grpSpPr>
        <p:grpSp>
          <p:nvGrpSpPr>
            <p:cNvPr id="214" name=""/>
            <p:cNvGrpSpPr/>
            <p:nvPr/>
          </p:nvGrpSpPr>
          <p:grpSpPr>
            <a:xfrm>
              <a:off x="6553080" y="762120"/>
              <a:ext cx="1828800" cy="685800"/>
              <a:chOff x="6553080" y="762120"/>
              <a:chExt cx="1828800" cy="685800"/>
            </a:xfrm>
          </p:grpSpPr>
          <p:sp>
            <p:nvSpPr>
              <p:cNvPr id="215" name=""/>
              <p:cNvSpPr/>
              <p:nvPr/>
            </p:nvSpPr>
            <p:spPr>
              <a:xfrm>
                <a:off x="7670880" y="762120"/>
                <a:ext cx="71100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15200" y="1055520"/>
                <a:ext cx="406440" cy="14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6553080" y="762120"/>
                <a:ext cx="1067040" cy="685800"/>
                <a:chOff x="6553080" y="762120"/>
                <a:chExt cx="1067040" cy="6858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553080" y="762120"/>
                  <a:ext cx="711360" cy="685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213680" y="1055520"/>
                  <a:ext cx="406440" cy="147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6864480" y="768240"/>
              <a:ext cx="215640" cy="216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35880" y="920880"/>
              <a:ext cx="215640" cy="215640"/>
            </a:xfrm>
            <a:prstGeom prst="ellipse">
              <a:avLst/>
            </a:prstGeom>
            <a:solidFill>
              <a:srgbClr val="e844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40440" y="1073160"/>
              <a:ext cx="216000" cy="21600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11840" y="1225440"/>
              <a:ext cx="216000" cy="21600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Gase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es completely fill their chamber because it is more random than to leave half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34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lid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&lt;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quid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&lt;&lt;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more ways for the molecules to be arranged as a liquid than a sol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es have a huge number of possible arrang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Entrop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s form because there are many more possible arrangements of dissolved pieces than if they stay sepa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nd Law of thermodynam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uni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ur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univ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positive the process is spontane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univ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egative the process is spontaneous in the opposite dir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4-26T17:54:12Z</dcterms:created>
  <dc:creator/>
  <dc:description/>
  <cp:keywords/>
  <dc:language>en-US</dc:language>
  <cp:lastModifiedBy>FPS</cp:lastModifiedBy>
  <dcterms:modified xsi:type="dcterms:W3CDTF">2007-12-11T17:35:29Z</dcterms:modified>
  <cp:revision>9</cp:revision>
  <dc:subject/>
  <dc:title>Chapter 16</dc:title>
</cp:coreProperties>
</file>